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978E-95D5-46A6-BDE1-05B537CCD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E895-1F08-45CC-BFF2-A1654EE90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how the fistula is both the exit for the unclean blood and entry point for the cleansed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ours per week does the average dialysis patient undergo dialy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ternative site for a fistul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BBC4-47B0-4D19-9222-236A9B7CC6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peritoneal membrane located in the bod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DCAE-95FB-45DC-BAEA-AD78429BB6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types of peritoneal dialy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8F29-1524-4EE4-B3B2-B01FB7E08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kidney transplants each year than any other organ transplant surgery, with many on waiting l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1589-4F6B-4FAD-8A41-B22F56D62E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screening and evaluation of both donor and recipient are performed to offer a compatible match and the best possible pro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DDCC-DB56-4EF4-8E20-98D677755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an acute uremic episode dangero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ust a patient do if acute renal failure occu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0C9-9E87-41DE-BF50-69648929CA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acute renal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considered an emergen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2DCE-241E-4C87-93D2-14FC06FEE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renal damage can be prevented by controlling exposure to nephrotoxic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E8E5-ACC5-4E7B-902E-3026FAC2F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during metabolic acido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A1FA-582B-441E-974F-216671A382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infections common in acute renal fail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F30C-DD0E-4089-BC2E-1D07F40E92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imary function of the kidney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9E1C-F198-4B7C-A0B0-7C73C1B4FD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oss of nephrons diminish kidney func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F3B3-EEA8-432C-A897-D3BC469195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presence of hypertension and edema in chronic renal failure represent? (retention of flu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lood in the urine (hematuria) indic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901-DC6F-4702-89C4-561C849C5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auses of chronic renal failure? (primary disease or infections of the kidney such as glomerulonephritis, pyelonephritis, etc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renal failure is often the end stage of chronic renal dis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hronic renal failure be cu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0497-8EB9-4F37-80F0-758FAC653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elonephritis is usually caused by an infection, pregnancy , or renal calculi (sto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 the most common type of renal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6FEE-EE84-4609-AE35-B85BC270E1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ymptoms have a rapid ons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other symptoms? (foul-smelling urine, which may contain blood and pus, and tender pubic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1157-16DA-4228-9BB2-D8C1FBA1ED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s are prone to infection when urine is obstructed by kidney stones, tumors or an enlarged pro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static urine significantly increase the risk of infect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23B-5053-4DF5-B853-D2C1A06D33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eant by a “clean-catch urine specime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n accurate diagnosis be made with only a urinalys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7EE8-3B7A-4E6F-ACA3-12ECB0B2D7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omen prevent pyelonephritis? (empty bladder after intercourse, increase fluid intake, front-to-back wiping of fecal mat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increased fluid intake help prevent pyelonep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FCC6-C24B-45EC-BCD5-B6BA6ECA24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ommon symptoms of kidney st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0558-F4DA-4DC0-B5ED-C81FF84D9E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stones can occur singly or in multi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can go unnoti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the stones cause blee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0C6A-50F6-4D35-B174-8606249431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ests of urinary tract disorders include culture and sensitivity tests, radiologic tests, and biopsies of le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ach of these procedures used to detect? (determine antibiotic therapy, visualize structural abnormalities, determine malignancy of lesions, respective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FE4A-E23F-4F69-A9E9-FEF008EC99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a kidney stone is considered an emergency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kidney stones is greatest in males between the ages of 30 and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A0BA-22E9-40CD-9C4C-70BEDB4AA1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and size of the stone largely determines the type of treat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pain associated with kidney ston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B808-7D3F-4BBF-B32E-C1F3A84165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the ureteroscope and cystoscope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lithotripsy and laser lithotripsy break the stone into smaller pieces that can pass natur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061F-DCE3-42A2-BA61-74DB6E49E9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ical removal of the stone is r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ED98-4F93-43FE-8E68-928096B9A6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nosis for recovery is good after stone passes or is removed, but return of stone formation i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pecific foods should one a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4067-BA8F-455B-B5D0-ACD2C3410E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often experiences a strong urge to urinate frequently due to the inflammation and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6618-82C2-464B-B469-A2DDC46267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ymptoms require prompt att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the burning sensation during urin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0C34-8B20-44FC-842B-0F4F24A119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increase a person’s susceptibility to these forms of bacter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mportant for women to void after sexual intercourse and wipe from front to back after elimin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B1BB-E6CF-4179-AF29-29559BE87C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ctious cystitis and urethritis respond well to anti-infective drug 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increased fluid intake be part of the trea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D1B2-C899-456D-B015-2E48916B14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iab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type 1 and type 2 diab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9000-31F8-4882-BA3A-4D80431188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symptoms usually indicates an accumulation of waste products in the blood and electrolyte imbalance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s of pathology might be present with these symp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8A2F-BE54-4FD5-BA2A-C4E0401B7F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atients with diabetes who have elevated glucose levels and high blood pressure are at 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nephropathy is irrever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B58-E70B-437E-89DC-B35BB3A464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w-protein and low-fat diet may also be recomm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would a balanced fluid intake and output be important for this cond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diabetic nephropathy often lead to? (end-stage renal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7056-67F6-423B-A073-6F41C59113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incontinence occurs when increased abdominal pressure forces urine thought the bladder sphin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on tasks or responses in daily life increase abdominal pressure and may cause leakage of urine in those with stress incontin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ACE-51E0-46C5-99B7-06A36AF87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incontinence is more common in older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an older adult deal with episodes of stress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4572-66BE-49B8-9BB4-854B332DE3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collagen injections help stress incontin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are helpful for som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exercises and how are they per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A493-7AFE-4345-A90E-F6553A2E3D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ases resolve within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most often in children and adolesc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3AF5-4B15-4663-881A-BD022E9078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hypertension result from acute glomerulonephriti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1B2B-F6FA-4BBA-9F17-B9F2E87314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sodium restricted in the treatment of acute glomerulonephrit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0BBE-9161-4EA1-9D5B-AD611147EA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types of dialysis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6507-EC1A-40CB-A77B-951653DD91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odialysis can take place in either a patient’s home or in a medical fac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fistula is established and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465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5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0" y="6384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lsevier items and derived items © 2009 by Saunders, an imprint of Elsevier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465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rinary tract is responsible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ing, storing, and excreting ur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sing the blood of wast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ng the water, salts, and acids in the body fluids to ensure homeo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erly Function of th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W0256-11-06A"/>
          <p:cNvPicPr/>
          <p:nvPr/>
        </p:nvPicPr>
        <p:blipFill>
          <a:blip r:embed="rId1"/>
          <a:stretch/>
        </p:blipFill>
        <p:spPr>
          <a:xfrm>
            <a:off x="1477800" y="1465200"/>
            <a:ext cx="6323040" cy="3641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mo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uses patient’s own peritoneal membrane as a filtering de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alysate solution passes into peritoneal membrane through permanent cathe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 diffuses existing was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ted fluids are drained from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W0256-11-06B"/>
          <p:cNvPicPr/>
          <p:nvPr/>
        </p:nvPicPr>
        <p:blipFill>
          <a:blip r:embed="rId1"/>
          <a:stretch/>
        </p:blipFill>
        <p:spPr>
          <a:xfrm>
            <a:off x="1333440" y="1539720"/>
            <a:ext cx="6477120" cy="3600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itoneal Dialys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dney transplant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,000 people receive kidney transplants each year in the U.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5% are performed on patients wi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adrenal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ve ren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merulonep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Kidney transplantatio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lantation requires immunosuppressive agents to prevent potential rejection of the org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renal failure (ARF) is characterized by a sudden and severe reduction in renal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F qualifies as a clinical emergency because nitrogenous waste products quickly accumulate in blood causing an acute uremic epis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ght or infrequent urination (oligu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intestinal disturb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w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ished blood flow to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renal damage to the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obstruction of urin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renal failure can lead to death if not treated promp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goal is to reverse the decreased renal function. This may be accomplish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fluid intake and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ing a high carbohydrate/low protein diet to avoid a protein imbalance (called metabolic acid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ing sodium and potassium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therapy may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hypertens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fective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pt treatment can reverse renal failure and lead to complete re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29800" y="1465200"/>
            <a:ext cx="75567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s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s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Urinary System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ists of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from the gradual and progressive loss of neph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eversible loss of rena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ual onset of waste buildup in blood (ur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3504960"/>
            <a:ext cx="27432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hythm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cle weak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0760" y="3505320"/>
            <a:ext cx="40338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ceration of gastrointestinal muc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ir and skin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y breathing (dyspne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c acid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3520" y="1654200"/>
            <a:ext cx="8001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8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—weakness, fatigue, and lethargy (due to an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8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uremic syndrome worse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Renal Failu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go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prolong and improve quality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ment for dialysis or kidney transpla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icted dietary intake of protein and so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ur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hypertens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infective ag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emetics (to control nausea/vomi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ythropoietin (a protein to help combat anem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itriol (a form of vitamin D to strengthen bo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flammation of the renal pelvis and connective tissues of one or both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type of rena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onset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ba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preceded by a urinary tract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7011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results from bacteria migrating from the lower urinary tract to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heterization or diagnostic procedures such as cystoscopy can introduce organisms into the urinary b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are at greater risk for developing pyelonephr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made by assessing clinical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graphic studies indicating swollen or enlarged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lysis of a clean-catch urine specimen that indic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white and red blood ce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bacteria, pus and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ye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antibiotics (penicillin or cephalosporin) for 7 to 10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fluid intake to dilute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detection and prompt treatment usually leads to full reco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nes in the kidney or in the urinary tract formed by the concentration of mineral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nes form as a result of excessive calcium or uric acid in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465200"/>
            <a:ext cx="69343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pain in flank area (renal col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in the urine (hematu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dis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nephrosis may result if urine is prevented from flowing past calcu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 function is usually determined by urinalysis and blood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results demonstr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 filtration, absorption, and elimination of metabolic w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e fluid and electrolyt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aluation of th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a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 between 30 and 60 years of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b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ary stasis from ob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me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kidney stone and treating pain/infection are primary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 therapy is given for 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stones (3mm or less) may be allowed to pass naturally with increased fluid int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may be used to dissolve some st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nt’d.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procedures for remov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h stones into smaller pieces using conventional or laser lithotri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and remove stone using a ureteroscope or cyst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ible com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rocedures mentioned previously fail to remove calculi, surgical incision into kidney may be necessary to remove stone before permanent damage occ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nal Calculi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en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 at least eight glasses of water a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 regular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foods high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a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us cyst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ammation of the urinary bl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ethrit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lammation of the ureth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are common forms of urinary tract inf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urination with burning sensation and discoloration (dark yellow, pink, or 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in the pelvic region and low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sm of the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 coli (most comm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lebsi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ob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udom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ly transmitted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ion caused by chemotherapy or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therapy (penicillin derivatives are used to treat complex cystitis) for 3 to 5 days for uncomplicated cases and 7 to 10 days for recurring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emptying of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Cystiti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Urethrit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renal changes (called glomerulosclerosis) that result from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tients with type 1 diabetes (and many with type 2 diabetes) will eventually develop renal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95280" y="1465200"/>
            <a:ext cx="3657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 and body 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nk or low bac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urinary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ur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ymptoms of Urinary Diseas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in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tract infections and pyelonephritis are common com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betic Nephropath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cos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ing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fluid intake and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izing for patient nee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e dialysis or kidney transplant as part of long-term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trollable leakage of small amounts of urine from the bladder during physical exertion or actions that stress the pelvic muscles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i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ening of the pelvic floor muscles and urethral structure, often attribut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 from childbi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from an existing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al changes associated with aging/meno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ress Incontine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 to strengthen pelvic floor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ogen replacement (estrogen cre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gen in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 and swelling of the glomeruli of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primary disease of the kid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develop secondarily to a systemic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follows a streptococcal bacterial infection of the throat or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in the urine (proteinur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urin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in urine (hematur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(not always pres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Glomerulonephrit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therapy (if infection pres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uretics for edema and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ed sodium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icosteroids (if immune reaction is suspec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aly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stage renal disease forces approximately one in every 10,000 people to use dialysis to filter wastes from their blood and urine. Without dialysis, these patients will eventually d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modialy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7080" y="1465200"/>
            <a:ext cx="7629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stula provides access to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is drawn out of the body and filtered using an artificial kidney (hemodialyz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sed blood is returned to th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Student</cp:lastModifiedBy>
  <cp:lastPrinted>2004-12-10T16:56:32Z</cp:lastPrinted>
  <dcterms:modified xsi:type="dcterms:W3CDTF">2011-06-14T20:35:51Z</dcterms:modified>
  <cp:revision>101</cp:revision>
  <dc:subject/>
  <dc:title>PowerPoint Presentation</dc:title>
</cp:coreProperties>
</file>